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5719-49FD-4708-B6C1-25C4FA703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F6B0-ACCD-46A1-BBA4-9ADDEB60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195D-3568-49C0-A6AC-47107CE98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63CE-4510-4279-B9CF-6FB453746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084F-152F-49D8-BE4E-88A6FD3D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EC1B-B782-49BE-82D1-2126C060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63B7-5E8D-49AB-AADD-0234D20A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6EC5-5342-4686-80D6-B4A1F175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4DD5-5261-4246-9BB8-3011423D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CB68-881F-4C0A-95F1-77BB3664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256E-07A4-498B-8261-2C007A13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6C03-2BFD-4F50-8957-A0F11242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4153-C6B2-4448-86F1-EDD3CBDF2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06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RTE DES FORCES EN 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9440" y="1600200"/>
            <a:ext cx="1125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dhé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9600" y="2747880"/>
            <a:ext cx="14331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oopé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162920" y="457200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08640" y="4572000"/>
            <a:ext cx="1754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457200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4572000"/>
            <a:ext cx="17510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62920" y="114300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62920" y="228600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08640" y="3429000"/>
            <a:ext cx="1754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62920" y="342900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57600" y="3429000"/>
            <a:ext cx="17510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57600" y="2286000"/>
            <a:ext cx="17510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1143000"/>
            <a:ext cx="17510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08640" y="1143000"/>
            <a:ext cx="1754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8640" y="2286000"/>
            <a:ext cx="1754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342900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228600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114300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905120" y="1143000"/>
            <a:ext cx="701028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45640" y="3809880"/>
            <a:ext cx="904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térê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880" y="4957920"/>
            <a:ext cx="1084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assivi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73240" y="5943600"/>
            <a:ext cx="13921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oncil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86000" y="5948280"/>
            <a:ext cx="999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rit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85400" y="5948280"/>
            <a:ext cx="1297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p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528680" y="5948280"/>
            <a:ext cx="1049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ostili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36:16Z</dcterms:modified>
  <cp:revision>72</cp:revision>
  <dc:subject/>
  <dc:title>Contrôle interne des risques</dc:title>
</cp:coreProperties>
</file>